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29.png" ContentType="image/png"/>
  <Override PartName="/ppt/media/image6.png" ContentType="image/png"/>
  <Override PartName="/ppt/media/image11.png" ContentType="image/png"/>
  <Override PartName="/ppt/media/image8.wmf" ContentType="image/x-wmf"/>
  <Override PartName="/ppt/media/image13.png" ContentType="image/png"/>
  <Override PartName="/ppt/media/image9.png" ContentType="image/png"/>
  <Override PartName="/ppt/media/image7.wmf" ContentType="image/x-wmf"/>
  <Override PartName="/ppt/media/image12.png" ContentType="image/png"/>
  <Override PartName="/ppt/media/image30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5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14DA1-28A9-422E-9477-B61B504DDC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EC694-B708-411B-8FD5-9C9853AA8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E10D4-4A4B-48F4-94A5-2675B4BC7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3341A-D538-4FC3-AFE4-81B9FFBB64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A6F81-40BE-471C-B1A4-E059C878B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1D6BCF-651F-4F8C-B4A1-D8502A6D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6CF7BC-6C44-4206-B28A-82A95FEC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DBA5F-2712-4AF3-BA6B-FAE2D901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C9933-FFDE-4656-981A-CCE4DE6E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A3314-52B3-43EE-8987-4FAD4A5B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C5084-E4BA-4D0D-BB57-13FA50AC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E9482-3C03-4A4D-95FB-151578CF9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FD50B-4786-4B99-A5B2-2AB798A5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78CD1-B028-411F-8A54-AF8E030C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F2585B-49F8-4910-B130-F3598C48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259A4-4F20-4ABC-B7E8-F6ADAE08A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11C98-6A78-4274-BED0-9C46E26EA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A0CA7-0260-4B38-AD83-5D2F82EC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D90BC-4B41-47E0-BC10-709F1A95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27936-6762-455D-9467-B2F2DDD1F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AAEA1-0FDF-4BD9-BEA0-8DD700E6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7C9F3-1D4E-4E44-B811-EBB21B7B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08ACF-E7E6-46F1-9DDB-D9748911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8C0C4-D076-484F-B0C2-211376D2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Click to edit the title text format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601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2" marL="1305000" indent="-395280">
              <a:spcBef>
                <a:spcPts val="601"/>
              </a:spcBef>
              <a:buClr>
                <a:srgbClr val="bc8b00"/>
              </a:buClr>
              <a:buSzPct val="105000"/>
              <a:buFont typeface="Gene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3" marL="1693800" indent="-387360">
              <a:spcBef>
                <a:spcPts val="601"/>
              </a:spcBef>
              <a:buClr>
                <a:srgbClr val="6699c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4" marL="2093760" indent="-398160">
              <a:spcBef>
                <a:spcPts val="601"/>
              </a:spcBef>
              <a:buClr>
                <a:srgbClr val="bc8b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5" marL="2093760" indent="-3981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6" marL="2093760" indent="-39816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66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3DC59-982E-483D-A9A7-8056FFF086CF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609480" y="1523880"/>
            <a:ext cx="7620120" cy="14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82480" y="9907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eorgia"/>
              </a:rPr>
              <a:t>Click to edit the title text format</a:t>
            </a:r>
            <a:endParaRPr b="0" lang="en-US" sz="40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36D4F-C934-4138-BF03-75CAB5FD6D91}" type="slidenum">
              <a:rPr b="0" lang="zh-CN" sz="12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09480" y="2819520"/>
            <a:ext cx="7620120" cy="142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2" marL="909720" algn="ctr">
              <a:spcBef>
                <a:spcPts val="451"/>
              </a:spcBef>
              <a:buClr>
                <a:srgbClr val="bc8b00"/>
              </a:buClr>
              <a:buSzPct val="105000"/>
              <a:buFont typeface="Genev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3" marL="1306440" algn="ctr">
              <a:spcBef>
                <a:spcPts val="451"/>
              </a:spcBef>
              <a:buClr>
                <a:srgbClr val="6699cc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4" marL="1695600" algn="ctr">
              <a:spcBef>
                <a:spcPts val="561"/>
              </a:spcBef>
              <a:buClr>
                <a:srgbClr val="bc8b00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5" marL="1695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6" marL="1695600">
              <a:spcBef>
                <a:spcPts val="45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he Tenet Architecture for Tiered Sensor Network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neva"/>
                <a:ea typeface="宋体"/>
              </a:rPr>
              <a:t>O. Gnawali, B. Greenstein, K-Y. Jang, A. Joki, J. Paek, M. Viera, D. Estrin, R. Govindan, E. Kohler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eneva"/>
                <a:ea typeface="宋体"/>
              </a:rPr>
              <a:t>USC, UCLA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eneva"/>
                <a:ea typeface="宋体"/>
              </a:rPr>
              <a:t>SenSys 2006</a:t>
            </a:r>
            <a:endParaRPr b="0" lang="en-US" sz="2200" spc="-1" strike="noStrike">
              <a:solidFill>
                <a:srgbClr val="000000"/>
              </a:solidFill>
              <a:latin typeface="Gene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Three Task Operation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nstalla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Receive a task with a new ID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odifica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Receive a task with an existing ID and a bod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Dele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Receive a task with an existing ID and no bod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ll active containers associated with a task are destroyed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BB5A3-8020-40E1-80D5-C4DEC05835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Example Task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Blink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ntToLedsAndRf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Ping and MeasureHeap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enseToRf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8381880" cy="268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523880" y="3048120"/>
            <a:ext cx="5981760" cy="609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380880" y="4114800"/>
            <a:ext cx="825840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533520" y="5257800"/>
            <a:ext cx="8029440" cy="3142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533520" y="5562720"/>
            <a:ext cx="7419960" cy="57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E0A23-C70C-4534-AA21-7BA536F777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Data Fusion Example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ake 10 samples, timestamp it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lassify as interesting if 3 or more samples &gt; 45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alculates the deviation from the running mea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displays the sample on the LED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Gene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sends the statistic, timestamp, and sample if interesting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90720" y="4419720"/>
            <a:ext cx="6800760" cy="14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E8648-5A00-43AF-AC15-F55D8B58CB6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Network Subsystem Requirement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ust support different applications on tiered network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Routing must be robust and scalable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aster-to-mote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ote-to-master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Small memory footprint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asks must be reliably disseminated from any master to all mote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Results must be delivered with end-to-end reliabilit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F30F3-2E6F-4D78-B4F8-A7275DEB7A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Addressing and Routing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Every mote and master has a globally unique 16-bit addres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tes use TinyOS addres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sters use last 16-bits of IP addres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aster-to-master: IP routing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ote-to-master: tiered routing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First route to nearest master, then to destination master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Use standard WSN tree-routing protocol like MintRoute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E427D-870A-415A-9658-78A45478D51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Tiered Task Disseminatio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Reliably floods tasks to all mote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Partial network re-tasking achieved using a </a:t>
            </a:r>
            <a:r>
              <a:rPr b="0" i="1" lang="en-US" sz="2000" spc="-1" strike="noStrike">
                <a:solidFill>
                  <a:srgbClr val="000000"/>
                </a:solidFill>
                <a:latin typeface="Geneva"/>
              </a:rPr>
              <a:t>predicate tasklet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Implemented in a generic packet flooding protocol called TR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Reliably floods packets to all nodes (both motes and masters)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ed on beaconing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2B387-9723-44AC-A9CC-CBCAB2E2DC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Reliable Transport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ransmits responses from motes to mas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ree type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est effort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Reliable transactional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tream transport for high data rate application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All use hop-by-hop retransmission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e reliable protocols use a simplified version of TCP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451F65-45C1-4A40-9E65-0727E153DC4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Summary of Novel Networking Mech.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8663040" cy="401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067B6-DA30-414D-9C99-BE308EC461B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Evalution: Concurrency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How many tasks can a tmote support at once?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09480" y="5257800"/>
            <a:ext cx="7048800" cy="8859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38080" y="3753000"/>
            <a:ext cx="6534360" cy="1428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318960" y="2217600"/>
            <a:ext cx="8748720" cy="14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9D720-95FE-4C1C-9A09-D1F1420943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143000" y="1752480"/>
            <a:ext cx="5734080" cy="109548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Execution Time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41911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Most CPU-intensive tasklet, </a:t>
            </a:r>
            <a:r>
              <a:rPr b="0" i="1" lang="en-US" sz="2400" spc="-1" strike="noStrike">
                <a:solidFill>
                  <a:srgbClr val="000000"/>
                </a:solidFill>
                <a:latin typeface="Geneva"/>
              </a:rPr>
              <a:t>GatherStatistics</a:t>
            </a: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, can process 1200 samples in 14.8m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PU-bound max sampling rate is 81,000 samples per secon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2286000" y="2819520"/>
            <a:ext cx="3543480" cy="147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E5344-87E7-4596-8A99-2CAD45C3C0F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he Tenet Two-Tier Architecture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47239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otes and Mas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ulti-node data fusion done on mas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asters program motes using </a:t>
            </a:r>
            <a:r>
              <a:rPr b="0" i="1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724280" cy="2872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D758B-4599-4F85-8115-0696324F7B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Application: PEG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PEG = Pursuit-Evasion Game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One or more pursuers collaborate to corral one or more evader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Use WSN to help pursuers detect non-line-of-sight evad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Native implementation uses a leader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ultiple nodes sense the evader, leader fuses the data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tress tests Tenet (no mote-level fusion)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implementation adjusts the detection threshol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E7514-C205-401E-9BB1-FC2F02D1C1C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PEG Experimental Setup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3962160"/>
            <a:ext cx="8001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56 tmotes, 6 stargate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Simplification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宋体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vader detected using RSSI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lnSpc>
                <a:spcPct val="90000"/>
              </a:lnSpc>
              <a:spcBef>
                <a:spcPts val="451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宋体"/>
              </a:rPr>
              <a:t>Radio t</a:t>
            </a:r>
            <a:r>
              <a:rPr b="0" lang="en-US" sz="1800" spc="-1" strike="noStrike">
                <a:solidFill>
                  <a:srgbClr val="000000"/>
                </a:solidFill>
                <a:latin typeface="Geneva"/>
              </a:rPr>
              <a:t>ransmit power limited to achieve multihop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lvl="2" marL="1305000" indent="-395280">
              <a:lnSpc>
                <a:spcPct val="90000"/>
              </a:lnSpc>
              <a:spcBef>
                <a:spcPts val="400"/>
              </a:spcBef>
              <a:buClr>
                <a:srgbClr val="bc8b00"/>
              </a:buClr>
              <a:buSzPct val="105000"/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neva"/>
              </a:rPr>
              <a:t>9-hop diameter</a:t>
            </a:r>
            <a:endParaRPr b="0" lang="en-US" sz="16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ne evader, one stationary pursuer on central master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743200" y="1752480"/>
            <a:ext cx="3429000" cy="2186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7645A-FA35-4288-B8A4-53B6110416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486400" y="4876920"/>
            <a:ext cx="3124080" cy="1224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PEG Evaluatio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441936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has higher accuracy but higher latenc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has lower message overhea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990720" y="1752480"/>
            <a:ext cx="3257280" cy="2482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724280" y="1828800"/>
            <a:ext cx="3124440" cy="234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4A735-B11C-4D6D-97BA-D31768ABA7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Vibration Monitoring Case Study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used to implement Wisde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676520" y="2895480"/>
            <a:ext cx="3909960" cy="299088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1371600" y="2286000"/>
            <a:ext cx="4419720" cy="4856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867280" y="320040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ectOnSet reduces network traf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enet simplifies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66C0F-E05C-4066-8ACE-54A999821D6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Manageability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e following task can be used to capture the routing trees: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his can be used to evaluate the task dissemination latency: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447920" y="2629080"/>
            <a:ext cx="6305400" cy="2664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676520" y="3828960"/>
            <a:ext cx="5362560" cy="4381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1143000" y="4267080"/>
            <a:ext cx="6829560" cy="165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57A31-3427-4788-A8AB-0682EE99216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Robustnes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Failure of a master forces routing algorithm to adjust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828800" y="2438280"/>
            <a:ext cx="5486400" cy="33433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447920" y="2209680"/>
            <a:ext cx="612432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B0152-5ADA-48E5-82E6-D3A6EFD9FF1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Future Work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Near ter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ctuation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ote-tier storage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ounded-latency communication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Long ter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Impact of disconnection due to mobil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uthentic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Data Integr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ulti-user control and resource management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1224C-9E4D-49BF-B398-3059E57807C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Conclusio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simplifies programming while not significantly increasing overhea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84651-C4B1-49C1-AB62-91700426336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Applicatio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Pursuit-Evas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Pursuer mobile robots chase after evader robots with the help of a sensor network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Traditional implementation employs mote-tier data aggregation to reduce redundant evader report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97890-B418-4E5C-842D-2C65D78619C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enet Component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 librar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Composable tasklet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Reliable task dissemination protocol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Data transport mechanism (3)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Inter-tier routing subsystem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34E72-2A55-4E51-B859-73A37CE76A4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Example Task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Notify application when temperature &gt; 50F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A task contains an arbitrary number of tasklets linked together.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80880" y="2743200"/>
            <a:ext cx="824544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87BF0-D0BB-4272-9D38-2B6D8412FA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Motivatio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ost sensor network architectures support multi-node in-network data fus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Increased complex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Reduced manageabil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3BE61-DEE1-4E2A-A126-04BB5B4D1F2F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enet Design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enet limits multi-node data fusion to the mas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Can perform more sophisticated fusion algorithm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Larger contex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 better decision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57E80-6C73-4EDA-B896-6D35BC01AA19}" type="slidenum">
              <a:t>31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Efficiency Cost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Opportunity cost of multi-mote data fus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otes can still fuse locally-generated data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2" marL="1305000" indent="-395280">
              <a:spcBef>
                <a:spcPts val="451"/>
              </a:spcBef>
              <a:buClr>
                <a:srgbClr val="bc8b00"/>
              </a:buClr>
              <a:buSzPct val="105000"/>
              <a:buFont typeface="Genev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neva"/>
                <a:ea typeface="宋体"/>
              </a:rPr>
              <a:t>Sensor data have high temporal but low spatial redundancy</a:t>
            </a: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ore data routed to the mas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A well-designed WSN will have a small diameter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Higher conges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Application parameters can be tuned, e.g., only high-confidence pursuers report to master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lvl="2" marL="1305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C6A71-1A12-4C16-B6CF-19DA9A5A83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Five Design Principle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Asymmetric Task Communica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aster send mote tasks, mote send master reply, mote cannot initiate tasks (no inter-mote communication)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Addressabilit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Masters can talk to each other, any master can talk to any mote, a mote can reply to its tasking master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 Librar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Each task is a subset of a mote’s generic functionalit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Resilience to extensive network failure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Manageabilit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898560" indent="-431640">
              <a:lnSpc>
                <a:spcPct val="90000"/>
              </a:lnSpc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Tools must offer useful insight into network failure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024FB-816E-48D9-B0C7-33CB40FA90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enet Task and Task Library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Focus on simplicity rather than expressivenes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A task is composed of tasklets, which are parameterized service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Linear composition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lets maximize flexibility while remaining simple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Each task has a unique ID, a list of tasklets, and their parameter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50720" indent="-45072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 library composed at compile-time due to TinyO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62120" y="3124080"/>
            <a:ext cx="7924680" cy="260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8904B-D860-4140-BE78-16D2101C77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Tasklets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5105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Can be composed into a wide range of tasks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362320" y="1752480"/>
            <a:ext cx="4486320" cy="334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34DCE-4004-4055-B9CE-30DBD4DA121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ask Data Structure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434340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Tasks are dynamically allocated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  <a:ea typeface="宋体"/>
              </a:rPr>
              <a:t>Active Containers hold task data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  <a:ea typeface="宋体"/>
              </a:rPr>
              <a:t>Cloned when a tasklet repeats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819520" y="1752480"/>
            <a:ext cx="3429000" cy="2654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1143000" y="5562720"/>
            <a:ext cx="6878520" cy="5634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143400" y="1828800"/>
            <a:ext cx="26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Attributes are 3-tupl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&lt;tag, length, valu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5C011-396F-47B8-A26E-2E88CC55729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eorgia"/>
                <a:ea typeface="宋体"/>
              </a:rPr>
              <a:t>T</a:t>
            </a:r>
            <a:r>
              <a:rPr b="0" lang="en-US" sz="3600" spc="-1" strike="noStrike">
                <a:solidFill>
                  <a:srgbClr val="ff6600"/>
                </a:solidFill>
                <a:latin typeface="Georgia"/>
              </a:rPr>
              <a:t>he Mote Runtime</a:t>
            </a:r>
            <a:endParaRPr b="0" lang="en-US" sz="3600" spc="-1" strike="noStrike">
              <a:solidFill>
                <a:srgbClr val="ff6600"/>
              </a:solidFill>
              <a:latin typeface="Georgi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ask-aware queues used by services (e.g., wait)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marL="469800" indent="-469800">
              <a:spcBef>
                <a:spcPts val="601"/>
              </a:spcBef>
              <a:buClr>
                <a:srgbClr val="bc8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neva"/>
              </a:rPr>
              <a:t>Tenet scheduler operates at tasklet-level granularity</a:t>
            </a: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  <a:p>
            <a:pPr lvl="1" marL="907920" indent="-436320">
              <a:spcBef>
                <a:spcPts val="499"/>
              </a:spcBef>
              <a:buClr>
                <a:srgbClr val="6699cc"/>
              </a:buClr>
              <a:buSzPct val="7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Allows multiple tasks to execute concurrently</a:t>
            </a:r>
            <a:endParaRPr b="0" lang="en-US" sz="2000" spc="-1" strike="noStrike">
              <a:solidFill>
                <a:srgbClr val="000000"/>
              </a:solidFill>
              <a:latin typeface="Genev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nev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44CB6-5894-48C3-980A-A11DA2BF72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2T16:50:13Z</dcterms:created>
  <dc:creator>julien</dc:creator>
  <dc:description/>
  <dc:language>en-US</dc:language>
  <cp:lastModifiedBy>Sun Fei</cp:lastModifiedBy>
  <dcterms:modified xsi:type="dcterms:W3CDTF">2006-09-22T18:36:16Z</dcterms:modified>
  <cp:revision>645</cp:revision>
  <dc:subject/>
  <dc:title>Slide 1</dc:title>
</cp:coreProperties>
</file>